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24E-7B3D-4F51-A88E-D873E28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ACB-506C-472B-BAC8-BF4CF1A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24D-DF36-4998-8567-FC4210BD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BBB-84BC-484D-94E8-124CDFE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33E-C0D1-4E73-B549-4C58F495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6D6-4B43-4428-918F-97A583B6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B32E-6CDB-4F51-9D00-BE0A3CA6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3947-6FBF-41F0-88B2-215DDCC2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6B3D-9AF7-4D9A-8039-1ABAAB87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29A9-85FD-4A27-B3DE-209ABC2E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20DE-6EF6-4D0F-94BF-7DD5A69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EEC-7B3B-4A61-BD35-E33EAA4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AEAD-7172-4DD0-B1D7-FAF8CF8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D7BE-6D87-4C36-8B2F-71F0D149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A00-E2FE-4A05-96DB-50CF5B6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3BAE-ED30-4A97-88BE-2BB83E83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C897-191D-4A6F-9963-A5A560A2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1A09-16AA-449B-BB39-AA99EEF1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21C6-2A9C-4035-8A5D-F6CB7C2C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E497A-3399-4BA6-B5D2-12045C23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C27A-3ED6-4C6C-807B-91E3FE43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79CD-BB9B-456F-BC4D-D848D30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AC0-73AA-49D5-8AC1-6B20FDD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4C46-4A32-4D07-81F7-4820456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EB81-7B04-4471-950E-EF94E7B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A74B-DBEF-4E85-A2FC-8D88EF3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F0CE-330E-4E81-A64D-3CE86AC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B4F0-7FAD-42DA-B6A5-04FEDDB4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B36D-E467-497A-96BE-55B9AEE6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918C-2D8C-4335-8CE3-C337C938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309-9549-490F-9A84-CF1A7E0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DA3-B479-410B-A60C-7C6A44E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5DA-831A-4E6C-85C0-361F1DE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767-B8D5-4CF8-AD9A-FD35A83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0EA-BC31-4F8A-B760-D2851DEC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C90-BE48-416B-8762-1EC966A3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2BC7-3C73-4587-A0C1-742EF0EAA81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84040" y="6478560"/>
            <a:ext cx="542880" cy="37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8340840" y="6308640"/>
            <a:ext cx="803160" cy="549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74EC-0004-406D-912C-B0DE5A9A34A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098800" cy="1052640"/>
          </a:xfrm>
          <a:prstGeom prst="rect">
            <a:avLst/>
          </a:prstGeom>
          <a:ln w="0">
            <a:noFill/>
          </a:ln>
        </p:spPr>
      </p:pic>
      <p:sp>
        <p:nvSpPr>
          <p:cNvPr id="85" name="Line 10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6278400"/>
            <a:ext cx="826920" cy="579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8236080" y="6237360"/>
            <a:ext cx="907920" cy="620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F15-D71E-4983-BB3F-AE7F3A57842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drea.depolo@gmail.co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uropeanaPhotography</a:t>
            </a:r>
            <a:br>
              <a:rPr sz="4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CT-PSP Project no. 2971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Content providers summary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By Andrea de Po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drea.depolo@gmail.c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98989"/>
                </a:solidFill>
                <a:latin typeface="Calibri"/>
              </a:rPr>
              <a:t>Cultural Heritage Consul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alibri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3" descr="SAM_0866.JPG"/>
          <p:cNvPicPr/>
          <p:nvPr/>
        </p:nvPicPr>
        <p:blipFill>
          <a:blip r:embed="rId1"/>
          <a:stretch/>
        </p:blipFill>
        <p:spPr>
          <a:xfrm>
            <a:off x="5292720" y="1197000"/>
            <a:ext cx="37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P3200004.JPG"/>
          <p:cNvPicPr/>
          <p:nvPr/>
        </p:nvPicPr>
        <p:blipFill>
          <a:blip r:embed="rId2"/>
          <a:stretch/>
        </p:blipFill>
        <p:spPr>
          <a:xfrm>
            <a:off x="5664240" y="4221000"/>
            <a:ext cx="3516120" cy="263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SAM_0870.JPG"/>
          <p:cNvPicPr/>
          <p:nvPr/>
        </p:nvPicPr>
        <p:blipFill>
          <a:blip r:embed="rId3"/>
          <a:stretch/>
        </p:blipFill>
        <p:spPr>
          <a:xfrm>
            <a:off x="34920" y="1268280"/>
            <a:ext cx="2233440" cy="297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SAM_0874.JPG"/>
          <p:cNvPicPr/>
          <p:nvPr/>
        </p:nvPicPr>
        <p:blipFill>
          <a:blip r:embed="rId4"/>
          <a:stretch/>
        </p:blipFill>
        <p:spPr>
          <a:xfrm>
            <a:off x="1979640" y="4005360"/>
            <a:ext cx="3611520" cy="270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SAM_0906.JPG"/>
          <p:cNvPicPr/>
          <p:nvPr/>
        </p:nvPicPr>
        <p:blipFill>
          <a:blip r:embed="rId5"/>
          <a:stretch/>
        </p:blipFill>
        <p:spPr>
          <a:xfrm>
            <a:off x="2268360" y="1628640"/>
            <a:ext cx="29750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screenshot_55.jpg"/>
          <p:cNvPicPr/>
          <p:nvPr/>
        </p:nvPicPr>
        <p:blipFill>
          <a:blip r:embed="rId6"/>
          <a:stretch/>
        </p:blipFill>
        <p:spPr>
          <a:xfrm>
            <a:off x="28440" y="4508640"/>
            <a:ext cx="3254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5056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So far the most important discussions among the content provider partners ar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Digitazation harm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Quality contr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IPR and metadata inges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Content providers: important considerations on…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magine 1" descr=""/>
          <p:cNvPicPr/>
          <p:nvPr/>
        </p:nvPicPr>
        <p:blipFill>
          <a:blip r:embed="rId1"/>
          <a:stretch/>
        </p:blipFill>
        <p:spPr>
          <a:xfrm>
            <a:off x="7199280" y="1268280"/>
            <a:ext cx="1933560" cy="2413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42" name=""/>
          <p:cNvSpPr txBox="1"/>
          <p:nvPr/>
        </p:nvSpPr>
        <p:spPr>
          <a:xfrm>
            <a:off x="25056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he objectives we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vide training for restoration and digitization of ancient photograph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collect best practices and standard documents to support the digitization 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align all partners to the considered minimum technical, scientific and methodological skill and know how, each adapting the guidelines on local workflow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85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Digitization workshop: Girona, 21-22 May 201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asellaDiTesto 5"/>
          <p:cNvSpPr/>
          <p:nvPr/>
        </p:nvSpPr>
        <p:spPr>
          <a:xfrm>
            <a:off x="7600320" y="364500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Courtesy of CR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6200" y="1125000"/>
            <a:ext cx="87138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irst Italian Museum of 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ent from Fratelli Alinari IDEA SpA (oldest photo archive in the wor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linari contribution: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onograph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sterpiece quality photography by most important photographe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conogra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ubjects will be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alian landscape, urban views, monuments, works of ar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raits: the most important personalities of politics, cultur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umes: local costumes that reflect the culture Italian reg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ustry: document of factories, industrial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otograph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linari, James Anderson, Carlo Naya, Domenico Bresolin, Moritz Lotze, Wilhelm von Gloeden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90440" y="-360"/>
            <a:ext cx="53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Fratelli Alinari Museo per la storia della fotogra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4920" y="7920"/>
            <a:ext cx="1871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1" descr="APA-S-011953-1000"/>
          <p:cNvPicPr/>
          <p:nvPr/>
        </p:nvPicPr>
        <p:blipFill>
          <a:blip r:embed="rId1"/>
          <a:stretch/>
        </p:blipFill>
        <p:spPr>
          <a:xfrm>
            <a:off x="0" y="-27000"/>
            <a:ext cx="30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AVQ-A-000086-0149"/>
          <p:cNvPicPr/>
          <p:nvPr/>
        </p:nvPicPr>
        <p:blipFill>
          <a:blip r:embed="rId2"/>
          <a:stretch/>
        </p:blipFill>
        <p:spPr>
          <a:xfrm>
            <a:off x="2987640" y="-171360"/>
            <a:ext cx="3097080" cy="247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WSA-F-000190-0000"/>
          <p:cNvPicPr/>
          <p:nvPr/>
        </p:nvPicPr>
        <p:blipFill>
          <a:blip r:embed="rId3"/>
          <a:stretch/>
        </p:blipFill>
        <p:spPr>
          <a:xfrm>
            <a:off x="0" y="2421000"/>
            <a:ext cx="3529080" cy="26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FCC-F-019580-0000"/>
          <p:cNvPicPr/>
          <p:nvPr/>
        </p:nvPicPr>
        <p:blipFill>
          <a:blip r:embed="rId4"/>
          <a:stretch/>
        </p:blipFill>
        <p:spPr>
          <a:xfrm>
            <a:off x="2975040" y="2205000"/>
            <a:ext cx="382104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TAD-F-001448-0000"/>
          <p:cNvPicPr/>
          <p:nvPr/>
        </p:nvPicPr>
        <p:blipFill>
          <a:blip r:embed="rId5"/>
          <a:stretch/>
        </p:blipFill>
        <p:spPr>
          <a:xfrm>
            <a:off x="5940360" y="0"/>
            <a:ext cx="2035080" cy="304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PDC-A-004574-0051"/>
          <p:cNvPicPr/>
          <p:nvPr/>
        </p:nvPicPr>
        <p:blipFill>
          <a:blip r:embed="rId6"/>
          <a:srcRect l="0" t="10997" r="0" b="10997"/>
          <a:stretch/>
        </p:blipFill>
        <p:spPr>
          <a:xfrm>
            <a:off x="5008680" y="4581360"/>
            <a:ext cx="4135320" cy="2273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MFC-F-000987-0000"/>
          <p:cNvPicPr/>
          <p:nvPr/>
        </p:nvPicPr>
        <p:blipFill>
          <a:blip r:embed="rId7"/>
          <a:stretch/>
        </p:blipFill>
        <p:spPr>
          <a:xfrm>
            <a:off x="7378560" y="-100080"/>
            <a:ext cx="1801800" cy="280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AVQ-A-003467-0017"/>
          <p:cNvPicPr/>
          <p:nvPr/>
        </p:nvPicPr>
        <p:blipFill>
          <a:blip r:embed="rId8"/>
          <a:stretch/>
        </p:blipFill>
        <p:spPr>
          <a:xfrm>
            <a:off x="5940360" y="2492280"/>
            <a:ext cx="1511280" cy="2454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WSA-F-002588-0000"/>
          <p:cNvPicPr/>
          <p:nvPr/>
        </p:nvPicPr>
        <p:blipFill>
          <a:blip r:embed="rId9"/>
          <a:stretch/>
        </p:blipFill>
        <p:spPr>
          <a:xfrm>
            <a:off x="7308720" y="2592360"/>
            <a:ext cx="1871640" cy="230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AVQ-A-001391-0500"/>
          <p:cNvPicPr/>
          <p:nvPr/>
        </p:nvPicPr>
        <p:blipFill>
          <a:blip r:embed="rId10"/>
          <a:stretch/>
        </p:blipFill>
        <p:spPr>
          <a:xfrm>
            <a:off x="3240" y="4581360"/>
            <a:ext cx="1590480" cy="227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WSA-F-002394-0000"/>
          <p:cNvPicPr/>
          <p:nvPr/>
        </p:nvPicPr>
        <p:blipFill>
          <a:blip r:embed="rId11"/>
          <a:stretch/>
        </p:blipFill>
        <p:spPr>
          <a:xfrm>
            <a:off x="1476360" y="4653000"/>
            <a:ext cx="2664000" cy="232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BOD-A-000001-0128"/>
          <p:cNvPicPr/>
          <p:nvPr/>
        </p:nvPicPr>
        <p:blipFill>
          <a:blip r:embed="rId12"/>
          <a:stretch/>
        </p:blipFill>
        <p:spPr>
          <a:xfrm>
            <a:off x="4067280" y="4614840"/>
            <a:ext cx="1944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1:40:28Z</dcterms:created>
  <dc:creator>"Antonella Fresa" &lt;fresa@promoter.it&gt;;Valentina Bachi</dc:creator>
  <dc:description/>
  <dc:language>en-US</dc:language>
  <cp:lastModifiedBy>Bachi</cp:lastModifiedBy>
  <dcterms:modified xsi:type="dcterms:W3CDTF">2013-05-15T07:10:28Z</dcterms:modified>
  <cp:revision>48</cp:revision>
  <dc:subject/>
  <dc:title>Diapositiva 1</dc:title>
</cp:coreProperties>
</file>