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14.jpeg" ContentType="image/jpe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8C2-F11E-4738-9DD8-FB904E95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0EF2-D2CD-4804-BA72-07EE64DE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7685-2DA9-46ED-BEDC-1B14558B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0D3-3F8E-408A-9B06-4C953FE2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A79C-EB1E-4DEE-AB0A-FB5A7AD8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20CE-B7CD-4DE5-8498-D25D2226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E010-7ED8-444B-9819-E1EA3995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AF38-3874-4195-91A0-501D96CA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3005-926E-4EF1-B1A5-CCDBD51E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F7B9-5FD8-49D1-8275-206D9945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B19D-90D4-4504-BA03-666E3D57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8A44-C75A-475C-918B-7159DE9B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ABB3-D26B-470A-A12D-ADE55FA0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B5C3-E574-42D0-B901-3D063BCD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CF89-B6EA-44A2-9AF4-82CE59DB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E73D-893D-4B51-B883-246F624E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A304-6BA0-47B2-9E9A-451511D6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E9D30-677D-4A35-9B01-0D17F0FE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552D8-C2B5-41F5-AF1C-4C7E310C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B2703-1536-4A5D-B1AF-D1058B0C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0D49B-E9F3-4C6C-8C9C-8A27174D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BC2EE-0D52-4608-9C0C-228846F6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4571-CC98-43C6-BAB6-50E78712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C1CAB-7126-4865-854C-37B870EC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32C7B-AF47-4B4B-8416-F240EE7A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BD83C-472A-463C-B280-EBC3D7B1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81A08-91A9-41AA-A3E5-2CE99E91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94975-0EFF-4921-8E1A-1BC33FEE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B8A1B-4012-4A27-B625-33924889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1E7D0-E344-46A1-A864-3BA88E83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9B6A-CC62-480B-B6E8-DB8AA770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6127-5EC6-4D48-A4F0-44976214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A28E-8DC0-4CA6-9880-2D73B0FF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24FE-4ED0-43B2-B7BB-D79732DF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ECB-572F-4B66-A606-E2D6247C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908B-9357-4C9A-B71B-3CAF412A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9A0D-7CF6-42BA-BCC8-54CB853FA517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84040" y="6478560"/>
            <a:ext cx="542880" cy="37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340840" y="6308640"/>
            <a:ext cx="803160" cy="549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FE19-DAD6-4A08-904D-055325932CC2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098800" cy="1052640"/>
          </a:xfrm>
          <a:prstGeom prst="rect">
            <a:avLst/>
          </a:prstGeom>
          <a:ln w="0">
            <a:noFill/>
          </a:ln>
        </p:spPr>
      </p:pic>
      <p:sp>
        <p:nvSpPr>
          <p:cNvPr id="85" name="Line 10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>
            <a:off x="0" y="6278400"/>
            <a:ext cx="826920" cy="579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4"/>
          <a:stretch/>
        </p:blipFill>
        <p:spPr>
          <a:xfrm>
            <a:off x="8236080" y="6237360"/>
            <a:ext cx="907920" cy="620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01D0-C890-4349-B64A-DAF6B23CF5FC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ndrea.depolo@gmail.com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uropeanaPhotography</a:t>
            </a:r>
            <a:br>
              <a:rPr sz="4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CT-PSP Project no. 29715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898989"/>
                </a:solidFill>
                <a:latin typeface="Calibri"/>
              </a:rPr>
              <a:t>Content providers summary activ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898989"/>
                </a:solidFill>
                <a:latin typeface="Calibri"/>
              </a:rPr>
              <a:t>By Andrea de Pol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ndrea.depolo@gmail.co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898989"/>
                </a:solidFill>
                <a:latin typeface="Calibri"/>
              </a:rPr>
              <a:t>Cultural Heritage Consult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Calibri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13" descr="SAM_0866.JPG"/>
          <p:cNvPicPr/>
          <p:nvPr/>
        </p:nvPicPr>
        <p:blipFill>
          <a:blip r:embed="rId1"/>
          <a:stretch/>
        </p:blipFill>
        <p:spPr>
          <a:xfrm>
            <a:off x="5292720" y="1197000"/>
            <a:ext cx="3780000" cy="295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P3200004.JPG"/>
          <p:cNvPicPr/>
          <p:nvPr/>
        </p:nvPicPr>
        <p:blipFill>
          <a:blip r:embed="rId2"/>
          <a:stretch/>
        </p:blipFill>
        <p:spPr>
          <a:xfrm>
            <a:off x="5664240" y="4221000"/>
            <a:ext cx="3516120" cy="2637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SAM_0870.JPG"/>
          <p:cNvPicPr/>
          <p:nvPr/>
        </p:nvPicPr>
        <p:blipFill>
          <a:blip r:embed="rId3"/>
          <a:stretch/>
        </p:blipFill>
        <p:spPr>
          <a:xfrm>
            <a:off x="34920" y="1268280"/>
            <a:ext cx="2233440" cy="2976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6" descr="SAM_0874.JPG"/>
          <p:cNvPicPr/>
          <p:nvPr/>
        </p:nvPicPr>
        <p:blipFill>
          <a:blip r:embed="rId4"/>
          <a:stretch/>
        </p:blipFill>
        <p:spPr>
          <a:xfrm>
            <a:off x="1979640" y="4005360"/>
            <a:ext cx="3611520" cy="2708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SAM_0906.JPG"/>
          <p:cNvPicPr/>
          <p:nvPr/>
        </p:nvPicPr>
        <p:blipFill>
          <a:blip r:embed="rId5"/>
          <a:stretch/>
        </p:blipFill>
        <p:spPr>
          <a:xfrm>
            <a:off x="2268360" y="1628640"/>
            <a:ext cx="2975040" cy="223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screenshot_55.jpg"/>
          <p:cNvPicPr/>
          <p:nvPr/>
        </p:nvPicPr>
        <p:blipFill>
          <a:blip r:embed="rId6"/>
          <a:stretch/>
        </p:blipFill>
        <p:spPr>
          <a:xfrm>
            <a:off x="28440" y="4508640"/>
            <a:ext cx="32544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50560" y="1267920"/>
            <a:ext cx="777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So far the most important discussions among the content provider partners ar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Digitazation harmo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Quality contr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IPR and metadata inges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485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Content providers: important considerations on…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Immagine 1" descr=""/>
          <p:cNvPicPr/>
          <p:nvPr/>
        </p:nvPicPr>
        <p:blipFill>
          <a:blip r:embed="rId1"/>
          <a:stretch/>
        </p:blipFill>
        <p:spPr>
          <a:xfrm>
            <a:off x="7199280" y="1268280"/>
            <a:ext cx="1933560" cy="2413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42" name=""/>
          <p:cNvSpPr txBox="1"/>
          <p:nvPr/>
        </p:nvSpPr>
        <p:spPr>
          <a:xfrm>
            <a:off x="250560" y="1267920"/>
            <a:ext cx="777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The objectives we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provide training for restoration and digitization of ancient photograph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collect best practices and standard documents to support the digitization wor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align all partners to the considered minimum technical, scientific and methodological skill and know how, each adapting the guidelines on local workflow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485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Digitization workshop: Girona, 21-22 May 2012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CasellaDiTesto 5"/>
          <p:cNvSpPr/>
          <p:nvPr/>
        </p:nvSpPr>
        <p:spPr>
          <a:xfrm>
            <a:off x="7600320" y="3645000"/>
            <a:ext cx="12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Calibri"/>
              </a:rPr>
              <a:t>Courtesy of CRD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66200" y="1125000"/>
            <a:ext cx="8713800" cy="558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First Italian Museum of Photogra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ontent from Fratelli Alinari IDEA SpA (oldest photo archive in the wor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linari contribution: 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conograph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sterpiece quality photography by most important photographer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conograph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subjects will b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alian landscape, urban views, monuments, works of ar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rtraits: the most important personalities of politics, cultur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umes: local costumes that reflect the culture Italian reg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ustry: document of factories, industrial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otograph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linari, James Anderson, Carlo Naya, Domenico Bresolin, Moritz Lotze, Wilhelm von Gloeden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90440" y="-360"/>
            <a:ext cx="53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Fratelli Alinari Museo per la storia della fotograf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34920" y="7920"/>
            <a:ext cx="18716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1" descr="APA-S-011953-1000"/>
          <p:cNvPicPr/>
          <p:nvPr/>
        </p:nvPicPr>
        <p:blipFill>
          <a:blip r:embed="rId1"/>
          <a:stretch/>
        </p:blipFill>
        <p:spPr>
          <a:xfrm>
            <a:off x="0" y="-27000"/>
            <a:ext cx="3059280" cy="249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1" descr="AVQ-A-000086-0149"/>
          <p:cNvPicPr/>
          <p:nvPr/>
        </p:nvPicPr>
        <p:blipFill>
          <a:blip r:embed="rId2"/>
          <a:stretch/>
        </p:blipFill>
        <p:spPr>
          <a:xfrm>
            <a:off x="2987640" y="-171360"/>
            <a:ext cx="3097080" cy="2479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WSA-F-000190-0000"/>
          <p:cNvPicPr/>
          <p:nvPr/>
        </p:nvPicPr>
        <p:blipFill>
          <a:blip r:embed="rId3"/>
          <a:stretch/>
        </p:blipFill>
        <p:spPr>
          <a:xfrm>
            <a:off x="0" y="2421000"/>
            <a:ext cx="3529080" cy="2658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FCC-F-019580-0000"/>
          <p:cNvPicPr/>
          <p:nvPr/>
        </p:nvPicPr>
        <p:blipFill>
          <a:blip r:embed="rId4"/>
          <a:stretch/>
        </p:blipFill>
        <p:spPr>
          <a:xfrm>
            <a:off x="2975040" y="2205000"/>
            <a:ext cx="3821040" cy="273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TAD-F-001448-0000"/>
          <p:cNvPicPr/>
          <p:nvPr/>
        </p:nvPicPr>
        <p:blipFill>
          <a:blip r:embed="rId5"/>
          <a:stretch/>
        </p:blipFill>
        <p:spPr>
          <a:xfrm>
            <a:off x="5940360" y="0"/>
            <a:ext cx="2035080" cy="3043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PDC-A-004574-0051"/>
          <p:cNvPicPr/>
          <p:nvPr/>
        </p:nvPicPr>
        <p:blipFill>
          <a:blip r:embed="rId6"/>
          <a:srcRect l="0" t="10997" r="0" b="10997"/>
          <a:stretch/>
        </p:blipFill>
        <p:spPr>
          <a:xfrm>
            <a:off x="5008680" y="4581360"/>
            <a:ext cx="4135320" cy="2273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MFC-F-000987-0000"/>
          <p:cNvPicPr/>
          <p:nvPr/>
        </p:nvPicPr>
        <p:blipFill>
          <a:blip r:embed="rId7"/>
          <a:stretch/>
        </p:blipFill>
        <p:spPr>
          <a:xfrm>
            <a:off x="7378560" y="-100080"/>
            <a:ext cx="1801800" cy="2808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AVQ-A-003467-0017"/>
          <p:cNvPicPr/>
          <p:nvPr/>
        </p:nvPicPr>
        <p:blipFill>
          <a:blip r:embed="rId8"/>
          <a:stretch/>
        </p:blipFill>
        <p:spPr>
          <a:xfrm>
            <a:off x="5940360" y="2492280"/>
            <a:ext cx="1511280" cy="2454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WSA-F-002588-0000"/>
          <p:cNvPicPr/>
          <p:nvPr/>
        </p:nvPicPr>
        <p:blipFill>
          <a:blip r:embed="rId9"/>
          <a:stretch/>
        </p:blipFill>
        <p:spPr>
          <a:xfrm>
            <a:off x="7308720" y="2592360"/>
            <a:ext cx="1871640" cy="2300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AVQ-A-001391-0500"/>
          <p:cNvPicPr/>
          <p:nvPr/>
        </p:nvPicPr>
        <p:blipFill>
          <a:blip r:embed="rId10"/>
          <a:stretch/>
        </p:blipFill>
        <p:spPr>
          <a:xfrm>
            <a:off x="3240" y="4581360"/>
            <a:ext cx="1590480" cy="2276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WSA-F-002394-0000"/>
          <p:cNvPicPr/>
          <p:nvPr/>
        </p:nvPicPr>
        <p:blipFill>
          <a:blip r:embed="rId11"/>
          <a:stretch/>
        </p:blipFill>
        <p:spPr>
          <a:xfrm>
            <a:off x="1476360" y="4653000"/>
            <a:ext cx="2664000" cy="2320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BOD-A-000001-0128"/>
          <p:cNvPicPr/>
          <p:nvPr/>
        </p:nvPicPr>
        <p:blipFill>
          <a:blip r:embed="rId12"/>
          <a:stretch/>
        </p:blipFill>
        <p:spPr>
          <a:xfrm>
            <a:off x="4067280" y="4614840"/>
            <a:ext cx="194472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1:40:28Z</dcterms:created>
  <dc:creator>"Antonella Fresa" &lt;fresa@promoter.it&gt;;Valentina Bachi</dc:creator>
  <dc:description/>
  <dc:language>en-US</dc:language>
  <cp:lastModifiedBy>Bachi</cp:lastModifiedBy>
  <dcterms:modified xsi:type="dcterms:W3CDTF">2013-05-15T07:10:28Z</dcterms:modified>
  <cp:revision>48</cp:revision>
  <dc:subject/>
  <dc:title>Diapositiva 1</dc:title>
</cp:coreProperties>
</file>